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4F7-EBE0-425D-B6D5-AE37BC58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37B-B839-423A-B457-31C4237B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3F1C9-57BE-4ECC-9558-53F39804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291E8-2C4C-43CA-9A1E-862A94DC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6DD6F-F4F1-4F46-AAAD-0FBE149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05F7F-9F73-4727-902A-3F38EBC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1012F-43EA-4060-AEA4-95292A48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7257A-7294-4827-873E-66821924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6CF86-D3A4-407E-B282-06BF7F0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1774C-3439-49D5-A616-24641AC8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1E845-B9B9-4FE5-8D78-95FDB8FB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47C82-8C7D-447D-BFB8-4872B9F8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CDA-E2C1-4830-932A-E3A869A6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CE937-1E70-42D8-B7DC-AB770E5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0556B-C108-4F93-81D1-06C80FB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7BB75-D429-4F2F-8C52-FF7316AC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2901B-66DE-4A8F-BCC6-B940B140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A77B4-C6D2-4ED2-8DB5-46E44EFA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FC54D-B6F4-4C18-BA9C-A9FC92A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752A3-702E-4A99-8FF9-A855EE9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A9CAD-E21D-45E6-B8C3-F544CF40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8204B-E595-46FE-B85D-4ED5B2AD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51C60-2596-4D96-A3C1-2161D305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8ED-42E0-41F1-976F-998A94A0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6BA45-2075-4C9D-9BBA-BC00E5A0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672AE-E343-4B36-9626-1D0B4DC2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96A5D-2C15-4EF4-BF7A-B73698D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93057-1BE4-4B5B-AEF6-869728D9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EA63-F94F-4438-BB32-67E1B4A8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830EA-BEF1-46D9-B1CE-C6C68882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A67E-6730-40D3-926B-C4DD4C8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2A775-5A8F-46AF-87F4-FADC82C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0764F-4DCE-49D9-8743-AA3A21E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C49C3-BEAD-462B-B015-267DF89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47DC-7BFD-4146-98AD-38CB5CBA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06882-F38E-4544-8828-89F88AE2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FE30E-FEAD-4F2E-B481-EA6C833A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BDDC1-00E9-498C-A56B-8C9DBE68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3FFBF-B637-4427-8178-4DE97762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04F95-FC26-4746-9149-0AADCB52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EA7FA-AD8D-49C2-9402-A265E02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CC5D8-5900-4961-8B11-5F46BB2C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10FD7-0B33-4FB5-8009-A6640355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7C4F7-109A-460D-AEFA-7A3D8C2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FF4BD-CF0E-415E-AE78-BAC83F27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A211-2CDB-4D14-9114-8F678C3D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24986-CEC5-4D70-9508-8C8B729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716D7-2C81-4401-8C74-D0066A0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C56C8-4DB6-4D66-AFC3-DAC6B54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5408D-4295-4EBF-B334-3EB90FE9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E5157-E9FB-4D4D-A40B-2274B388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2E22-DAED-431F-8F2E-56693A4F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359C-5691-406A-95E0-0401204E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DA76-8D61-4C09-A0CE-F10583F6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629D-FD73-4D8F-926B-1DF3C17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EF97-B05D-44FF-A0AA-2DE678C0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6C3-AFE3-4522-8624-3C693597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D4AB-581E-4886-9E5D-DE47A5B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C54A-A29A-4D79-BFDC-A2B997C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7F14-5FA5-409D-8B2F-350E5A00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9216-95B1-4562-BE7C-EFD0D11D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DEF0-6A60-4306-A1C3-002A1071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FBD3-5EE2-4209-95E8-CF39D274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A213-3695-4BE9-9D87-018F8B80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CC32-3D3D-4FD4-A496-92A78E3B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D114-A613-418C-8365-D961398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D009-B6ED-4967-A391-E12BDF15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5D6-C642-4E26-940D-D7F6D0AE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8767-729B-4C1E-AC4E-EA66FFE8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8D4C-3759-4173-9165-DDCC400B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5FDA-4ECC-467D-9D4F-CBBC45F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AF97-49C8-4AEB-9E37-757555F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A52F-D094-4BBC-9F61-F6F390B3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B9D8-759B-4F19-AFAB-E20AB21B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987F-0B48-42D7-8B7E-046F1DA7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E9C8-2451-4E08-A5D9-D8F83BEF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AB9F-26E3-4EA3-9B94-043D20DF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B6C7B-DEC3-4E19-AF0D-EC4E3260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227-3F5C-419D-8305-B60CC3F4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1CE54-D30E-402C-B7D8-480071F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C96F-F11C-4CBD-9D3D-3B795F7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CB64-B48D-49C3-9A5B-7A00BE67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7E00-CEC5-42D2-AC46-71AF911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CA96-2153-4C1A-8817-22FBF394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C218-95B2-49A9-B6E6-E504755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7FC5-9AE2-4FA9-AEEB-2A5006AE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E4B7-27F3-45E9-9D07-D4DEEB48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F6D8-BBB0-458C-BF0A-9166F04D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4D17D-BC79-4102-8D5A-E95495E1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D2D-583B-487F-B6D0-C8154ADA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AC5B7-8047-4A57-A430-890F698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B173-3660-4914-A413-11694D31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B265-3443-42B8-94F1-A9E4B44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92971-10D0-4BC8-98BC-C7E73BE2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1C5F-7816-4CA4-9780-292605C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3E028-E425-4F48-9200-D8B41A0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A6AE-54EE-4187-AE7B-8931673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99F7E-3822-4637-83F2-07307EF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F695-610B-4A76-BAD0-E26E1DD5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CB0D8-9CFC-429F-981A-164824D8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8FE-D2A9-4D81-B449-13DA2E4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4030-00FE-4E06-8A06-7FEB49CE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E4A6-BF09-47E0-9CDE-7B052A85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A6325-F5D8-4F61-AA19-A9D8B7C7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613C9-7FD0-4E54-8FA6-7B014DEA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EFF6-63AF-4F2F-9746-AC073A7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854E-E4C8-4355-91CD-A3E3117D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A7D9F-832C-46AA-B701-23591699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DCD07-4D7B-4916-8B6A-8C4FA6E9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F431-1037-4FB2-9DA6-19380290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DEE17-CC11-431D-B1B9-E0CEB4C8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7D2-CED7-4495-8697-7337CDFD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FA06-6603-4DC5-B2A1-128E0EED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DCE05-D1FA-409A-B4FC-B56DF85D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E7C51-EDE1-42B2-8E9E-A481124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E6E6F-C273-46EA-A1DD-33D173AC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EE49F-A478-4A98-ADFD-44321321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EB9FF-FFDC-44AC-8F26-2BBAB18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3C05-85F3-4193-9D92-A202DC49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B8689-24F8-41BE-B4CA-6FD102B1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999E3-64EA-4418-B4A9-1D73CB5F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4BB8B-01DC-4D69-A721-430AD60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314-D952-4C20-8DD3-6A281E0D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115E-7EBA-451F-BB97-36A4375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A073-DCE3-407F-8D3C-AF5B45E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5704-08EC-48EB-9EFE-CC66899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C876-DC78-469B-AF38-F9096751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0E1FB-298A-45D9-8B04-FD689F1B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D5FC-F938-4CEF-9086-1AF51057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7F41E-044D-4F9D-BF1D-69B7D564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3711-A68B-4620-80BE-A01C958B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DE34-4757-48A6-B572-56383C84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9826E-75A4-49E1-B7C7-E6466C0D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5D0-EB58-4053-B0A5-8719C96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B243-4185-449B-84F2-0097E5D7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50CAD-4FA3-4F9E-8517-17B8C6EB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1ABA-0F08-458D-B583-EE397DC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87894-9A6E-4494-8B0E-938AC77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33B6E-817C-4C44-836A-1D45CC73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FBCE7-ECD7-46C6-AC94-77EDCD77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84D3-7924-4C98-87BE-F7C87317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F0F5E-2010-4140-B800-C5B64159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7AFDD-5205-4F3C-82E6-B1D5BF14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48931-26ED-4ED5-B820-7B9C37C8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696-70BC-4E70-B6AE-0F217E735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7392-78BC-4CA2-9A76-5ED092A20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6F98-185C-4DEA-80E0-E4D46D0DE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A22A-8706-470E-A5ED-F123DF6FA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EBE-4D62-40FC-B52D-F8B3586D8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6B9D-ABC0-4CD9-A6BD-1E6112BA7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9D8-8F73-47B2-AEF6-9C3BF2735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0B6-8983-43E7-AFF7-0E0A29C4D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C98A-F93A-41C3-B3E0-07D269A11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9197-F852-4406-A199-C0914224E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8D02-108F-4B0D-96D2-A39022D7A4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905B-78A3-49A7-8284-723DE5C59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KE BULLOCK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AKE MUN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Unit 10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ree Trade and Exchange Rat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ade Between N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ources are not distributed equally across earth / n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ons trade to get what they don’t ha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ade also means mutual gains for both countr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is means that both parties are better off after the trade than they were before the trad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a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untry specializes in whatever area of production it is most efficient at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eads to increased efficiency and spurs trad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dvantag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bsol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n a country is can make a product with less resources or in less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country can produce more with the same amount of resour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 countries one produ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ativ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en a country has a lower opportuity costs for a particular product relative to another produc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 countries   2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riff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x on Import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owers imported supply by driving up prices of foreign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rease prices of foreign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crease demand of foreign goo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reates Tax revenue for importing governm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tricts all exporting countries equal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ot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egal limit on the amount of goods that can be import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ces limit on number of goods and therefore drives up pr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pply is shrunk so therefore price up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ce increase goes to domestic distributors instead of tax reven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otas discriminate based on political bi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change Rat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s the price of one currency in terms of ano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lo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ate for every other currenc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termined by supply and demand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and side comes from want to buy another nations good, services, or financial instru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pply is determined by the need to buy another nations currency in order to buy their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reciation Depreci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ng run = inflation r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 inflation rates mean less demand and thus depreci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dium run = economic ac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conomic activity results in more supply of currency resulting in depreci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rt run = interest ra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igh interest rates means more demand for currency resulting in appreci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 Recession … Global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RGDP fa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orts f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eign countries exports f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eign countries RGDP fa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6:56Z</dcterms:created>
  <dc:creator>Diegel.b696</dc:creator>
  <dc:description/>
  <dc:language>en-US</dc:language>
  <cp:lastModifiedBy>Diegel.b696</cp:lastModifiedBy>
  <dcterms:modified xsi:type="dcterms:W3CDTF">2009-01-26T18:56:01Z</dcterms:modified>
  <cp:revision>4</cp:revision>
  <dc:subject/>
  <dc:title>Unit 10 Free Trade and Exchange Rates</dc:title>
</cp:coreProperties>
</file>